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659-F915-44A5-90AC-87FF0094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863-D203-4409-998A-D853E52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63E-91E2-473D-AAFC-C0D95854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FF8-E007-4908-9856-F067AB64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615A-FC3F-42D2-AD18-DFE78423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8E7D-EC4C-4A45-BFE0-4A49D27D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8AE-2430-46B9-A029-33AF0C4E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00BE-AB1E-4D13-86FE-7ACB3207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756D-0C58-4362-9E73-2642A08D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0458-3AD1-4430-8F9F-C4A0B5BC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087-0C77-4D9E-895F-03A0207D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B79-C499-41CB-BBD2-7BA41EA7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DA52-BC5F-4B86-90E4-C8D19DD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842E-B0CF-4418-8445-AFA44BA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47D-FB94-48BF-BC13-1EC6706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08FE-2450-4F2C-83BC-DB2D3362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4959-D5D4-4CD1-A7E5-35C09029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241-0C99-42A5-A235-E5BF46D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894-8B40-40ED-83C6-72344C0A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15E-2297-4EDB-A805-B229042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D8F-1F42-4A70-B4C9-CE841C5D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90A-D586-4C73-954D-EEE0745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7FA-A285-4674-B047-775C1AC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432-1F5D-428C-8F6E-C57BE59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DA4-88E6-4A0E-B0C2-CD0BE6210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5F72-9B46-47CA-A4C8-260C320E8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Происхождение     человека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мушева Екате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Жили они в основном в пещерах и умели использовать огонь. Одновременно существовало довольно много форм древнейших людей, стоявших на разных ступенях развития и эволюционировавших в разных направлениях( в том числе в направлении гигантизма ). Наиболее перспективным направлением эволюции было дальнейшее увеличение объема головного мозга, развитие общественного образа жизни, совершенствование орудий труда, более широкое использование огня. Все другие формы, в том числе гиганты, быстро исчез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Древние люди (неандертальцы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К древним людям относят новую группу людей, появившихся около 200 тыс. лет назад. Они занимают промежуточное положение между древнейшими людьми и первыми современными людьми. </a:t>
            </a:r>
            <a:r>
              <a:rPr b="0" i="1" lang="en-US" sz="2800" spc="-1" strike="noStrike">
                <a:solidFill>
                  <a:srgbClr val="66ff33"/>
                </a:solidFill>
                <a:latin typeface="Arial"/>
              </a:rPr>
              <a:t>Неандертальцы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были очень неоднородной группой. Изучение многочисленных скелетов показало, что в эволюции неандертальцев при всем разнообразии строения можно выделить две ли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58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680" y="152280"/>
            <a:ext cx="85406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дна линия шла в направлении мощного физического развития. Это существа с низким скошенным лбом, низким затылком, сплошным надглазничным валиком, слабо развитым подбородочным выступом, крупными зубами. При небольшом росте (155-165см) они обладали чрезвычайно мощно развитой мускулатурой. Масса мозг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остигала  1500г. Полагают, что неандертальцы пользовались членораздельной реч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30492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Другая группа неандертальцев характеризовалась более тонкими чертами – меньшими надбровными валиками, высоким лбом, более тонкими челюстями и развитым подбородком. В общем физическом развитии они заметно уступили первой группе. Но взамен у них значительно увеличился объем лобных долей головного мозга. Эта группа неандертальцев боролась за существование  не путем усиления физического развития, а через развитие внутригрупповых связей при охоте, при защите от врагов, от неблагоприятных природных условий, т. е. через объединение сил различных особей. Этот эволюционный путь и привел к появлению 40-50 тыс. лет назад вида Человек разумный-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Homo sapiens.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1523880"/>
            <a:ext cx="8540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екоторое время неандертальцы и первые современные люди сосуществовали, а затем, примерно 28 тыс. лет назад, неандертальцы были окончательно вытеснены первыми современными людьми –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кроманьонцами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Кроманьонцы были высокого роста</a:t>
            </a: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 до 180 см, с высоким лбом, объем черепной коробки достигал 1600 см. Сплошной надглазничный валик отсутствовал. Они владели членораздельной речью, о чем свидетельствует хорошо развитый подбородочный выступ и хорошо развитый мозг. Эволюция человека вышла из-под ведущего контроля биологических факторов и приобрела социальный характе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7699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ff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оложение человека в системе животного мир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мбриональном развитии человека есть черты, характерные для всех представителей типа Хордовые: это хорда, нервная трубка на спинной стороне зародыша, жаберные щели в глотке. Развитие позвоночного столба, наличие двух пар конечностей, местонахождение сердца на брюшной стороне тела определяют принадлежность человека к подтипу Позвоночных. Четырехкамерное сердце, сильно развитая кора головного мозга, теплокровность, млечные железы, волосы на поверхности тела, зубы трех видов свидетельствуют о принадлежности человека к классу млекопит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Развитие плода в теле матери и питание его через плаценту характерно для подкласса Плацентарных. Такие признаки, как конечности хватательного типа, ногти на пальцах, хорошо развитые ключицы, замена молочных зубов на постоянные в процессе онтогенеза, рождение, как правило, одного детеныша определяют положение человека в отряде Приматов. Более частые признаки - редукция хвостового отдела позвоночника, аппендикс, большое число извилин на полушариях головного мозга, четыре основные группы крови, развитие мимической мускулатуры и ряд других, позволяют отнести человека к подотряду Человекообразных обезьян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коло 30 млн. лет назад появились небольшие животные, жившие на деревьях и питавшиеся растениями и насекомыми. Их челюсти и зубы были такими же, как у человекообразных обезьян. От них произошли гиббоны,  орангутаны и вымершие впоследствии древесные обезьяны – дриопитеки. Дриопитеки дали три ветви, которые привели к шимпанзе, горилле и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человеку.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Происхождение человека от обезьян, ведущих древесный образ жизни, предопределило особенности его строения, которые в свою очередь явились анатомической основой его способности к труду и дальнейшей социальной эволю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30492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Arial"/>
              </a:rPr>
              <a:t>Решающим шагом на пути от обезьяны к человеку явилось прямохождение. Одна из групп обезьян, обитавших 12 млн. лет назад, дала начало,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Arial"/>
              </a:rPr>
              <a:t>Эти животные, ископаемые остатки которых найдены в Южной Африке, получившие название </a:t>
            </a:r>
            <a:r>
              <a:rPr b="0" i="1" lang="ru-RU" sz="2800" spc="-1" strike="noStrike">
                <a:solidFill>
                  <a:srgbClr val="00cc99"/>
                </a:solidFill>
                <a:latin typeface="Arial"/>
              </a:rPr>
              <a:t>Австралопитеки,</a:t>
            </a:r>
            <a:r>
              <a:rPr b="0" lang="ru-RU" sz="2800" spc="-1" strike="noStrike">
                <a:solidFill>
                  <a:srgbClr val="00cc99"/>
                </a:solidFill>
                <a:latin typeface="Arial"/>
              </a:rPr>
              <a:t> жили стадами, имели массу до 50 кг и рост до 150 см. Они ходили на двух ногах при выпрямленном положении тела. В отличие от всех обезьян строение зубной системы у них было сходно с человеческой. Масса мозга составляла 550 г, а руки были свобод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Однако, около 2 млн. лет назад жили существа, более близкие к человеку, чем австралопитеки. Они имели массу мозга до 650 г, умели обрабатывать гальку с целью изготовления орудий. Эти человекообразные обезьяны получили название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Человек умелый.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Эволюция австралопитеков шла в направлении прогрессивного развития прямохождения, способности к труду и совершенствованию головного мозга. Естественный отбор сохранял признаки, содействовавшие развитию стадности, т.е. усилению общественного характера поисков добычи и защиты от хищных зверей, что в свою очередь влияло на совершенствование руки и на развитие высшей нерв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510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адии эволюции челове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знаком, отделяющим человекообразных обезьян от людей, считается масса мозга, равная 750 г. Именно при такой массе мозга овладевает речью ребе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750"/>
                            </p:stCondLst>
                            <p:childTnLst>
                              <p:par>
                                <p:cTn id="1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В процессе становления человека выделяются три стад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1) древнейшие люд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2)древние люд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3) современные лю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80880" y="-572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ревнейшие люд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читают, что древнейшие люди возникли около 1 млн. лет назад. Известно несколько форм древнейших людей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итекантроп, синантроп, гейдельбергский челове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яд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гих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шне они уже походили на современного человека, хотя отличались мощными надглазничными валиками, отсутствием подбородочного выступа, низким и покатым лбом. Масса мозга достигала 1000 г. Мозг имел более примитивное строение, чем у позднейших фор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ита</cp:lastModifiedBy>
  <dcterms:modified xsi:type="dcterms:W3CDTF">2011-03-14T12:59:4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